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3B3-6F47-412C-9B41-1C5D82F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060-58FC-4953-8DB3-8257A8E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5B6-4808-44DD-9A4D-87651BA7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D62-5FD8-4C89-B7B8-2F5F1C41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066-BE3B-4CB3-86D8-76A9CC9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0CC-5FBB-4280-8E6B-A4F43288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9B8-61E8-459F-ABC1-04D01C0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FDE-1EA8-40A1-ACFA-41012BB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D8F-B77D-45D3-AE4A-7EA1ADF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2F1-E305-4E80-B50B-7881BE8E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94A-E61D-4289-A9B8-ABACD999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DF1-F2DF-475A-A08B-3D70DB0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52CA-5387-4814-A2A0-C45E27F3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overy Terminology for GMPLS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</a:t>
            </a:r>
            <a:r>
              <a:rPr b="1" lang="fr-B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tf-ccam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gmpls-recovery-terminology-01.txt</a:t>
            </a:r>
            <a:br>
              <a:rPr sz="2600"/>
            </a:br>
            <a:br>
              <a:rPr sz="28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ysis of GMPLS-based Recovery Mechanis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papadimitriou-ccamp-gmpls-recovery-analysis-03.tx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MPLS Recovery Functional Specifica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bala-gmpls-recovery-functional-01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867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tection &amp; Restoration Design Team - CCAMP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ETF 55 - Atlanta November’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hared Meshed Recovery &amp;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Shared Bandwid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isting sub-TLV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Max LSP Bandwidth, Max Reservable Bandwidth and Unreserv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w sub-TL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luding Sharable Bandwidth for Recovery R[i] (initial value max_R[i]) and Bandwidth committed for (shared) Recovery r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&gt;  Shared recovery ratio per TE Link = (R[i] + r[i]) / r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Shared Bandwidth and Disjoint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SRLG (and optionally list of SRLG)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able/Shared Bandwidth per (group of) SRL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 Admission Contro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 the Explicit Route of the working LSP over the recovery L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impacting on diversity (lookup in the sub-object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35812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al due to potential second hit during to the reversion switching op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-on/-off (default behaviour settable per policy) either through signalling or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ersion 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e same LSP as the one previously under failure (default behaviou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lies “testing” the LSP (using Admin_Status) before reversion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the “bridge and switch” a.k.a “make-before-break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ep possibility (e.g. policy or signalling) to clear out the resources on intermediate nodes if reversion switching not possib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Next Step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5880" y="2852640"/>
            <a:ext cx="1879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5880" y="466416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7640" y="3648240"/>
            <a:ext cx="11178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11560" y="319392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9392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9895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5880" y="608652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5440" y="2909880"/>
            <a:ext cx="48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757760"/>
            <a:ext cx="40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3308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6959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464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rch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410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uly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00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37720" y="4910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7720" y="6281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8080" y="3004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the working group cons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achievement (~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eport ~ dec’02/jan’03 - Deadline 3q’03 to finalize first phase (including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6576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91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ug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6095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ov’03 (first phase 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up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1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 Comput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Comp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2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ignall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ign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3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Selec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4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Alloc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quivalent to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ne driven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8098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9625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s the label assignment process - several solutions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storation Mechanisms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ort Positioning, Status &amp; Ti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371600"/>
            <a:ext cx="28195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0544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ctional Specification 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144792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8288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95288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601020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1447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743200"/>
            <a:ext cx="579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343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6019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version to be issued (after agreement on 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ril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105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ly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920" y="2286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ch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g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905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arch’02 (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Aug’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105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Nov’02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anks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&amp;R Design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orah Brun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heer Dharanik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athan 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ngzhi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 Man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tri Papadimitri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 Rajagopa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kov Rek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covery phase analy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hase 1: Failure det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2: Failure localization/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3: Failure 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4: Recovery (protection/resto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Times New Roman"/>
              </a:rPr>
              <a:t>Phase 5: Reversion (normal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ocus on Phase 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overy mechanisms and sc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s classification of the restoration schem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Focus on Phase 6 - Reversion (Norm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Horizontal &amp; vertical hierarchy, Escalation strategies  and Disjoin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Dimensions for recovery Scheme/Strategy analysis: fast convergence, efficiency, robustness &amp; resource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covery Mechanisms Applic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 Search (computation and 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e-planned (Pre-signalling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faster recovery         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flexible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1 | - less robust  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st resource consum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protec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lexible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2 | - relatively robust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source consumption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  depends on sharing degre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recovery LSP activation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- less faster (compu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re flexible             | - most 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3 | - relatively robust         | - most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resource consuming   | - least resource con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(depends on sharing degree)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re-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=&gt; reservation + activation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sion -01.txt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tails the protocol mechanisms (message exchange) and information to be carried to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implemen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these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liver separately a protocol (message oriented) specification covering the “analyzed” recovery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pan (Link)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d-to-End (LSP/LSP segment)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hared Meshe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sion and other Administrativ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sues and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) Bulk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2) Shared Meshed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3) Re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lk LSP Recovery on Link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case of (component) link failure of a TE Link carrying numerous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ndle notification messages does not need additional extension if within the same Interface-ID TLV (Extended IF_ID Error_Sp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ster for the affected LSPs may be located at each side of the TE link =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wo masters may compete for the same component link (within the same TE link) resource for recovering these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ever, they may (even prior to the failure) agree on which (common) recovery link these LSPs will be recovered otherwise some fragmentation of the TE link components usage may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46:51Z</dcterms:created>
  <dc:creator>papadimd</dc:creator>
  <dc:description/>
  <dc:language>en-US</dc:language>
  <cp:lastModifiedBy>rbonica</cp:lastModifiedBy>
  <dcterms:modified xsi:type="dcterms:W3CDTF">2002-11-21T13:58:53Z</dcterms:modified>
  <cp:revision>33</cp:revision>
  <dc:subject/>
  <dc:title>Draft-design-team-gmpls-recovery-analysis-00.txt</dc:title>
</cp:coreProperties>
</file>