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C0D-02C8-403F-84A4-C3CE90AA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594-8E70-4B3F-AF66-0E1BAF8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A9E-98D5-4F0D-B1B7-B258501B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011-EAE9-4D4F-B1D4-7EA530FF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3D8-4E8A-4983-85AF-8C88668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840-7766-4D86-B6D4-727E7E4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A0B-C919-44C0-9703-DB2F588E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BEE-86F5-4285-9CFF-CF665C0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341-D944-46B7-A5F8-A75048A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243-09F4-4A98-B909-EF27DF8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C5A-79EE-42AE-9F35-0D7312D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86B-2ABE-4372-A97C-FB0279E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0F8-2002-4721-8861-DC07EDF4E2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F11-B232-4B53-A288-845FA82F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LS &amp; GMP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and manag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ri D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a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4EC-FF26-4FA8-9E07-FC8CEC75CC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FAF23-97D2-49A5-B0B8-762EA5BAF5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mix of optical signals that can operate over a single fi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s available p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rate per wavel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i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arious types of transpor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ming of 10s of 1000s of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859-F77C-4CFD-A4DB-3F51F9F504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3016F-1422-4629-93CD-9F25B7D4F7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2A9-C28E-4F7D-A81A-A5703E4A84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8C854-B9CE-4580-BD27-715ED1A11A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hardware mechanis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ing rest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reserved protection links (1: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Protection Links 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6F8-5C16-4F34-9067-F8A96F6F9F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9D1F4-4CE2-447D-A26A-585DECBC8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SMP WG request to CCAMP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ietf.org/internet-drafts/draft-ietf-gsmp-reqs-04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it requires all that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meets Thursday 13.00 – 15.00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will b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E4E-9724-4E53-BF59-FF12B5160B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A9EAF-A2E3-4BAC-BBA8-EBDA9F86A7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ways to control/manage MPLS &amp;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choic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bel swi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EA0-3AF6-4285-B0EE-34E1F56706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D900C-99C3-4D11-923C-732852F13B0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1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 many control paths between a (G)MPLS Agent/Controll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Label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 cho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interface (several flav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available, alway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under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eployment in Korea and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621-5B02-437C-BD05-B7A8F75DF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A322D-2615-40B2-B50E-DD66A85954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de by one agent/contro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ot communicated to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iew of the state of the switch is kept by the agent/controller then state becomes in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 is not kept, is it efficient to retrieve full state for every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EB8-27A2-40F7-8D62-5D72433FE1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6957B-C595-4A86-BF15-6B2FD4E7FF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for issu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be a requirement that any control or management scheme for G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notification by the switch of any changes in state made in the manag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157-8DE8-4174-A3DC-FC922E4A80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87059-7E0F-42FC-B609-3D61D4DB4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2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solution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and Control of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BS can be used to ‘manage’ anything and lots of people can do M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showing rampant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challenging the bounds of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low in GMPLS may be too dynamic for effective management by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645-A5CD-4D8F-95D7-3AA7C28860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71C74-152E-4E3B-A0BC-B6FF4F477A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o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consider use of GSMP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ome a long way in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support for label switc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MPL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urrently being fitted with GMPL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Restor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ross connec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Burst Switch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art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F01-BA43-4FA7-8563-F4269D6BC5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7200-CEC3-45E3-B28F-33D23002E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GSMP necessary for the suppor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(non-transparent and all op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/SDH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witching of IP pack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 frames and TDM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controllers will then be able to contro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ic cross- connects (optical-optica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optical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frame independ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SONET/SDH fr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TDM switches (all electric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CBD-5230-4821-B7EB-B14CC17F97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A5978-E484-4094-ADC7-462BBCC6F8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: ATM, Frame Relay, DS1, DS3, E1, E3, MPLS Generic Labels and MPLS FE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rogre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rrier Hierarchy (e.g., DS-1, E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and SDH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C-3, STM-1, VT1.5, VC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H labe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N G.709 lab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Hierarchies and Label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660-34A6-4C2F-A95C-6C4F684B0F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97856-584F-4A1D-8283-AB3E1639B1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7:02:31Z</dcterms:created>
  <dc:creator>avri doria</dc:creator>
  <dc:description/>
  <dc:language>en-US</dc:language>
  <cp:lastModifiedBy>rbonica</cp:lastModifiedBy>
  <dcterms:modified xsi:type="dcterms:W3CDTF">2002-11-21T13:57:22Z</dcterms:modified>
  <cp:revision>21</cp:revision>
  <dc:subject/>
  <dc:title>Label Switch  Control and management</dc:title>
</cp:coreProperties>
</file>