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196C-410C-4E33-A3CA-BB5AF95F8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0413-C021-4521-9AF5-1BDD6A56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D14A-A9E1-4A74-9B0B-1311BCEFC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4739-5A13-4782-8AA2-727A875EB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0530-BE73-437C-BB90-C10E78DA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EF3B-6BF4-4B0F-9092-EBF3A46A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A9EE-39E5-4149-8905-BCA15E80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4EEB-A273-4BD1-9F38-029E44DC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CAD1-DF1B-4CEA-9F0D-4A12F3E7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807A-87B5-4587-B800-335F424F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CAF6-FCEF-41E2-8B4D-77B81FB1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3B1E-63BA-4398-9C37-A89818FD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2DEF-73CD-4A2C-8059-C72239DE90A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5480" y="6248520"/>
            <a:ext cx="335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1AA7-4511-4493-871D-F69DE8925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CCAMP-55</a:t>
            </a:r>
            <a:endParaRPr b="0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WG Document Statu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Nov 18, 2002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hipped!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ase documents for generalized signaling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raft-ietf-mpls-generalized-signaling-09.tx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raft-ietf-mpls-generalized-cr-ldp-07.tx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raft-ietf-mpls-generalized-rsvp-te-09.tx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any thanks to the Editor, Authors, um, Contributors, ADs, RFC Editors and IANA!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First RFCs to come out of CCAMP WG (jointly with MPLS WG)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ologies for not using open sourc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B658-41D8-4E83-B978-0BF5AC39758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E3C845-4660-4D7E-87B0-B1BDC42FCA4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hipping …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LMP base spec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raft-ietf-ccamp-lmp-07.txt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nal WG Last Call finished Oct 1, ‘02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wo comments raised and addressed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New version (-07) ou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n route to IESG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ologies for not using open sourc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2D15-2C7C-4F7D-9362-35CE513F7BD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C0AED0-45E0-4E39-BD97-DF248B6760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ell Through the Crack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ONET/SDH Extension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raft-ietf-ccamp-gmpls-sonet-sdh-07.txt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ew version posted, all issues closed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Will send to IESG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rchitecture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raft-ietf-ccamp-gmpls-architecture-03.txt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Verify that it’s up-to-date, then send to IESG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ologies for not using open sourc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BB5A-85FD-4306-B679-CEC51441099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3CADB3-B640-4D84-BA18-C7DA9ADE26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acked and Ready to Go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Routing extensions for GMPL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raft-ietf-ccamp-gmpls-routing-05.txt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raft-ietf-ccamp-ospf-gmpls-extensions-08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nal WG Last Call ended Aug 28, ‘02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o public comments received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se will be checked for nits, then sent to the IESG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ologies for not using open sourc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D33B-0B45-4B24-B720-09573DAF3E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40D3E8-53E6-44A9-9898-8C1498E115A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formational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GMPLS Framework for SONET/SDH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draft-ietf-ccamp-sdhsonet-control-01.tx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nsensus to ship to the IESG?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gnaling non-standard SONET/SDH feature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draft-ietf-ccamp-gmpls-sonet-sdh-extensions-03.tx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chnical work done, still needs some editorial fixes of nit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ologies for not using open sourc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8C29-BEA2-4077-9757-40C53BF2564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0A5834-D517-474D-9FCF-5211AF5B3E8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n the Way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ONET/SDH LMP Test Message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draft-ietf-ccamp-lmp-test-sonet-sdh-00.tx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Check with ITU/T1.X1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sensus to send this to the IESG?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MPLS implementation survey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draft-ietf-ccamp-gmpls-signaling-survey-03.tx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orwarded to IETF secretary as an Implementation Repor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ologies for not using open sourc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3335-B194-4BFF-97A3-DF89137499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CB2C87-DB36-4254-9CC7-E8F9B1C373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 Progress …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LMP-DWDM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gnaling for G.709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GMPLS MIB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LMP MIB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ologies for not using open sourc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0429-C132-4506-A032-5E223CF5D8F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CFB3BA-C5B1-4663-98C2-E999578A7D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yriads of Other Doc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f you want your document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discussed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during a CCAMP WG meeting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lease send WG chairs email saying how the document fits into CCAMP charter (call out explicit work items)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lease begin a discussion of your doc on the mailing list so that you can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discuss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(not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present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 your document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ologies for not using open sourc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2CF1-E4C6-4AC1-9DBE-0FBD14AB09F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F82BC2-F12C-45C4-B36B-B609E61AEC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8:37:07Z</dcterms:created>
  <dc:creator>Kireeti Kompella</dc:creator>
  <dc:description/>
  <dc:language>en-US</dc:language>
  <cp:lastModifiedBy>rbonica</cp:lastModifiedBy>
  <dcterms:modified xsi:type="dcterms:W3CDTF">2002-11-21T14:00:41Z</dcterms:modified>
  <cp:revision>6</cp:revision>
  <dc:subject/>
  <dc:title>CCAMP-55</dc:title>
</cp:coreProperties>
</file>