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BDBA-D1E2-4C00-B6DF-466460B37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0EB0-687E-4A6F-88E6-DD9728B3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7D39-8A7B-4157-995B-0A11B282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D628-41B1-463F-A68D-A58D173E3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DE990-DDDA-441A-A6BD-830A0F5C6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203F5-51CC-491B-8466-7D8B4ECE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367A7-959E-4F1F-9FE0-823FE85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0788-EAEA-4870-8046-1F5037E0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C27CE-B295-410C-AD0C-267BBE62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F78F5-4D55-431C-9672-2D609A46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B464F-626C-46B7-98DF-F9EF3BA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431B-98CA-4227-955D-27E270D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5FF21-1F3A-4AEF-B81A-C6CDA7D6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910D8-0A50-4AD2-A3B9-3EBF28F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45DC1-6C6D-41AC-84F8-3ED6D26A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AA6B9-A26D-4B74-B7DA-04CD3BF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007CE-A445-49C5-BB15-FE8538DA0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3167-1266-496F-A241-9A092053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82D2-663E-4D22-9343-AA18FA7E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B89A-E743-488A-912E-D974F508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848B-C53A-4E75-89BE-CACFE716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A179-C6AA-4DBD-8801-57F4448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CD86-811C-4C2A-84FC-AD644025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422D-16B5-4762-B248-6A10300E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4F7-4234-4C34-B097-D700D4DB7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82880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7E87-7901-4179-90E2-2673D45BB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2880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cc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tf.org/IESG/liaison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TU-T Study Group 15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 Communication to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ETF CCAMP Working Group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to IETF ccamp from ITU-T Study Group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gnalling protocol work in Q.14/15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tion of Relevan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p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://sg15opticalt: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otxchange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@ftp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tu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nt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/_x000b_tsg15opticaltransport/_x000b_COMMUNICATIONS/index.htm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ietf.org/IESG/liaison.html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ing Protocol Work in Q.14/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wo draft new Recommendations under development for specific protocols for distributed Call and Connection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 new Recommendation G.7713.2, based on the GMPLS RSVP-TE signalling protoco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 new Recommendation G.7713.3, based on the GMPLS CR-LDP signalling protocol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oth planned for Consent at January 20-31, 2003 meeting of ITU-T Study Group 15 in Genev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ing Protocol Work in Q.14/15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inks provide on ITU-T FTP site where current draft Recommendations G.7713.2 and G.7713.3 can be downloade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lease provide any comments via contributions or liaison statements to ITU-T Study Group 15 prior to the January 2003 meet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ublication of base GMPLS documents as proposed standard RFCs to satisfy normative referenc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signaling-09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cr-ldp-07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rsvp-te-09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te: These are all approved as proposed standard and awaiting publication in the RFC-Editor’s queue. RFC numbers are needed prior to January 20, 2003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, 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ssignment of code points for additional error codes/values needed by ASON extensions to GMPL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quested in Formal Communication from Q.14/15 on May 10, 2002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ttempting to get code point assignment through publication of ASON extensions as informational RFCs: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raft-lin-ccamp-gmpls-ason-rsvpte-04.tx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raft-aboulmagd-ccamp-crldp-ason-ext-01.tx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te: both currently in RFC-Editor’s queue. Code point assignment needed prior to January 20, 2003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, “wish l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ublication of Transport Technology specific mappings for GMPL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ccamp-gmpls-sonet-sdh-07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ccamp-gmpls-g709-03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f ready prior to January 20, 2003, can be included as normative References in G.7713.2, G.7713.3. If not, can be added later by Amend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14:21Z</dcterms:created>
  <dc:creator>Zhi-Wei Lin</dc:creator>
  <dc:description/>
  <dc:language>en-US</dc:language>
  <cp:lastModifiedBy>rbonica</cp:lastModifiedBy>
  <dcterms:modified xsi:type="dcterms:W3CDTF">2002-11-21T13:59:24Z</dcterms:modified>
  <cp:revision>13</cp:revision>
  <dc:subject/>
  <dc:title>ITU Liaison for IETF</dc:title>
</cp:coreProperties>
</file>