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F9F-7A0E-4D37-B151-9F445B23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150-865C-4406-AE81-D5FCF253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1FA-5AFB-4535-8FB6-B7339F01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A9B-9D81-49D1-86FE-DFD4432D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127-8982-4F2C-B836-58AA810F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90E-65B7-42F7-8508-D8C702E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950-8E0F-4252-B1B9-AA05D29B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923-0289-436B-A63F-C64A2831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88E-8808-4718-A4FB-489714B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0AD-A73D-4C79-AFAA-7003E0C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DAB-EF94-4306-8CB1-1D7B19B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5E2-840F-4C16-9A7D-3A05E94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80880"/>
            <a:ext cx="83822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3F5-AC7D-425D-9BFD-211C5E228D71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980720" y="647676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67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2325-B90F-415A-ACB2-DAEB6CF9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981080"/>
            <a:ext cx="84582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MPLS Interoperability Test Event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nd Recommend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ok Narayanan, Cisco System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shokn@cisc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Schultz, UNH Interoperability Lab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chultz@iol.unh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C39-8FAF-400D-8B82-596A06C93B33}" type="datetime3">
              <a:rPr b="0" lang="en-US" sz="20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Receipt of E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444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accept Path messages with or without an 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nodes – should accep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odes – depends on feat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out 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 strict ERO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 ERO (strict or lo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binations (e.g. 1 &amp; 2, 1 &amp;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odes must clearly document what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13C-0907-415A-B5D0-0333CAE6CD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- miscellaneo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46560"/>
            <a:ext cx="7772400" cy="45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behave as per spec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with or without Labe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vConfir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label for TDM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TSpec including Profil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address: Router-ID or other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emplate address: Router-ID or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-ID Acks: from Router-ID or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document features that they support for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929-1D22-46EE-9C89-119A8728B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44520"/>
            <a:ext cx="77724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ested GMPLS RSVP/T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und a limited set of issues with the draft specifications, as per our tes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so provide some implementation recommendations to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in Test Plan &amp; Results White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mplsforum.org/NGNev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D1A-8AF9-4F3B-A8B9-29F2DA53C2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64360"/>
            <a:ext cx="8077320" cy="39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PLS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H Interoperability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il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Connection Ltd (D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Plane System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Test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camor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A9E-4010-428F-B54F-F0EF9D1D6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981440"/>
            <a:ext cx="7772400" cy="34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GMPLS Interoperability Tes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for CCAMP WG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for vend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1F2-26F1-4C86-BAFE-A3F1D65B44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13440"/>
            <a:ext cx="81532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 at UNH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ing for GMPLS demo at NGN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by The MPL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Juni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witc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c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ulated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plane, D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Eqp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, Net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EED-55D1-4307-BDE1-97DE94FF57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opology-resized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34E-2840-4C60-8383-2B3FF3ED66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7040"/>
            <a:ext cx="777240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d multi-vendor L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Ps signaled using GMPLS RSVP/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ally routed (no OSPF/TE, no L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e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ntrol Etherne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 data traffic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, some loose ERO support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in Test Plan &amp; Results White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mplsforum.org/NGNev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508-C50B-4C90-B142-F44D6A67A0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G Issues – ResvConf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3252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B ResvConf message addressed to…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Requester (as in RFC22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ResvConf to non-participant in LSP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can propagate without LS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integrity keys between e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-hop (like PathT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require extra integrity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cannot propagate without LS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must be to participant in LSP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: Next-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morphic to Resv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standards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239-1AF0-4751-A981-AA2FA23C4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Port lab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8040"/>
            <a:ext cx="84582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rt label value for FSC/LS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specifies label mapping is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“agreed” on interface-index (what about numbere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apping of label same as interface-index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viewed this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Must use privat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mapping independent of interface-index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s should implement remot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label map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ed or discovered (L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iance on interface-index mapping or any network-global label mapping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s to FSC or LSC, numbered or unnumb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3.2.1.1,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raft-ietf-mpls-generalized-signaling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4CA-190B-40D5-BB6E-0A38FFE37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Signaling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41080"/>
            <a:ext cx="8001000" cy="47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band signaling: “control” IP ad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F-ID HOP and ERRO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estination address of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: address of msg outpu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ause instability during CC change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P “control” address must change for Resv rea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-IDs invalid across CC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 a stabl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-ID is a good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routing (IGP/LMP/static) for reach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e any ctr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not responsible for unstable ctr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53E-30E6-49F0-AA4C-DB96120E07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- TSpe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49920"/>
            <a:ext cx="838224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generate SONET/SDH TSpe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aft-ietf-ccamp-gmpls-sonet-sdh-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any SONET-encoded LSP. Vendors disagr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aft-ietf-ccamp-gmpls-sonet-sdh-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for TDM switching or speci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PathError include TSp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2205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onal in Path and PathError, but PathError reflects from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3209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d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2205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both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DER_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DER_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thError for LS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21F-A230-46B4-82BD-4FE6893F6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23:13:39Z</dcterms:created>
  <dc:creator>ashokn</dc:creator>
  <dc:description/>
  <dc:language>en-US</dc:language>
  <cp:lastModifiedBy>rbonica</cp:lastModifiedBy>
  <dcterms:modified xsi:type="dcterms:W3CDTF">2002-11-21T14:00:19Z</dcterms:modified>
  <cp:revision>98</cp:revision>
  <dc:subject/>
  <dc:title>UNH IOL GMPLS Interoperability Experiences and Recommendations</dc:title>
</cp:coreProperties>
</file>